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A187-FD4C-4832-8EDA-4DD7A7420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A8A1-153D-46DB-9CA7-3CF99632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FC14-F563-433F-BFC1-D484A9895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B620-D76C-43E1-82B5-893B7C419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3559-054F-4662-B2A1-F58D61BB6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128E-6FF9-447E-9365-D0656D8B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FBF4-9212-4BA5-A21E-BC65161F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E9BF-9887-4670-901D-A18AB85F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A2DA-7D03-4E49-9611-DAF07FEF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C43F-9CAB-46E3-B556-4A5AE4E9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4226-B24C-4D5F-88D0-E0F1291D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9F41-465C-4A15-A8D9-6C6F8113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8881-713C-496A-B92B-E0EE64D0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6F77-5D6A-4293-BA07-A7DA248B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0197-72D0-4D94-BAEA-65E46B81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11E0-49FA-4F08-B664-064E3EB42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7960-C69E-4FC7-B2AA-20C31562B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9070-BE27-4D81-8AD8-4079DBE9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F622-B9A0-4100-A7BA-7E96DD6B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66E8-66E3-41F9-B8BC-87F49A55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6A0D-72FE-445C-9EAA-56305855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F9B2-AACF-4AE9-9EFD-68E33F89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5C56-671C-46ED-AA5D-3E0F4614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2A7B-CADF-4350-ABEF-27DE1DAD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A9C2-45DD-42A7-9061-27BF72F1AB5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E9A4-5B19-4DD1-8E9D-D1E4BD8A360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ittle-miss-pink.deviantart.com/art/Hate-38191635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Expressions Of M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Monika Balfan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Tango Danc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1905120"/>
            <a:ext cx="59436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tango dancer is without a c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wirling and swirling to a Latin bea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music electrifies the  a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ving in ways that no one da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r skirt of burgundy flowers flies up hig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tango dancer is without a c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324480" y="1600200"/>
            <a:ext cx="2590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447920" y="1066680"/>
            <a:ext cx="556236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he only laughs, silly men stop and st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y will never work up the nerv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music electrifies the ai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wo by two, they separate by pair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one she dances, not needing a man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tango dancer is without a c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867280" y="1828800"/>
            <a:ext cx="258300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438280" y="1371600"/>
            <a:ext cx="624852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r eyes are of a kind most rar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ep black onyx that stare through your so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music electrifies the a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he wishes this night to never 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ats that last eternally with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tango dancer is without a car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music electrifies the sweet ai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33717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>
            <a:grayscl/>
            <a:lum bright="34000"/>
          </a:blip>
          <a:stretch/>
        </p:blipFill>
        <p:spPr>
          <a:xfrm>
            <a:off x="3276720" y="1371600"/>
            <a:ext cx="5638680" cy="46227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 sonnet of Ha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2057400"/>
            <a:ext cx="62485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rimson hate courses through me like a fir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it up in the starry rage of the nigh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Your smile can only make the flames highe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You laugh even though you know I’m righ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 scream and yell, trying to make you see the ligh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othing but violence results in the en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y to change your will with all my migh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eed to make sense of the rules you b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600200" y="762120"/>
            <a:ext cx="58672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ridges that we have yet to m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ate is my poison, stealing my breath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tience is the gift that no one can len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imson hate, blood red deat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lack chaos morphing into burgun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’t you see the hate that you pull out of m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895480" y="335268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001000" cy="5695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by Jagua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1981080"/>
            <a:ext cx="815364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Little baby jaguar, stalking in the mid-nigh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Camouflages in darkness, hidden from their sigh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Angel roar resounds throughout the darkened playgrou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A little child comes out to play with curiosity unbou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asting scarlet blood running through the eart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Searching old places of his mother’s birth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Splashing in the water, deep with his bug best friends.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Muddy paw prints trek through the dirty bend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676520" y="685800"/>
            <a:ext cx="5943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pping at the kisses of sweet dew laid for h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lay time that lasts forever, hoping it will never c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ancing into the Moon Mother’s embr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ile keeping with the ancient predator’s c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rt of me is a little jaguar chi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e brings me to this deep dark, wil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81080" y="3352680"/>
            <a:ext cx="52578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ictures use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little-miss-pink.deviantart.com/art/Hate-3819163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poisonedpure.deviantart.com/art/Hate-Love-2066075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drayned-voodoo.deviantart.com/art/love-and-hate-3653307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manx-works.deviantart.com/art/Black-Jaguar-4146113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robbobert.deviantart.com/art/The-Jaguar-s-Gaze-1207259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miezbiez.deviantart.com/art/Jaguar-portrait-3527945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callalilynini.deviantart.com/art/Salsa-Dancer-5329938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doubtful-della.deviantart.com/art/Flamenco-2087787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www.salsagrooves.ie/images/contact.gi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21:30:21Z</dcterms:created>
  <dc:creator>Roni</dc:creator>
  <dc:description/>
  <dc:language>en-US</dc:language>
  <cp:lastModifiedBy>Roni</cp:lastModifiedBy>
  <dcterms:modified xsi:type="dcterms:W3CDTF">2008-05-16T21:58:42Z</dcterms:modified>
  <cp:revision>2</cp:revision>
  <dc:subject/>
  <dc:title>Expressions Of Me</dc:title>
</cp:coreProperties>
</file>